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920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920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A073-92D2-47C6-90DA-F748F508009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DF04-1B78-430E-B327-F8463C210F8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DBC-5A71-4FF2-BFD5-CE356EF3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5E4-4C1B-4236-9BBF-D06E9A3E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43D1-4AB2-412B-AE9D-BDB09CE1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7A20-CC4C-4CC9-9C34-1F90B3BA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68F4-DECA-40EE-A2D5-DA0FFAA9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B855-601A-4856-9C6C-45DCCA29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D742-1BFA-4304-B589-C80C36B5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7DA3-7777-412D-8804-E1E90DB5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3FA2-F781-4C60-80E3-B51C494E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82B7-51B3-426B-938F-0D210F0E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2C5E-8A1E-4C95-8205-973B8723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305-1E51-4FEF-BAB6-1D078D1E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0FA5-2316-4746-A0C7-A9A78DE5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9A9E-F259-4C0D-9D0B-46806F48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4BBF-FC6F-4137-AB86-7AED3A18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21D6-519F-42F9-B131-DAC05EE2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2EF4-2E2C-4DCA-812F-2AD26D66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B4EA-A385-4031-91F8-39CCB48F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7CE-BBC7-4551-8A88-BE31F40F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F100-79DA-4E61-B7BA-5446763F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3B6-2439-4C21-8B7C-954B7E19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FB83-C27F-4266-BECB-56463C51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70D7-A52E-44C7-9D67-4DF2C74B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C7C4-B656-467F-944B-9A8D7182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www.ecolinc.vic.edu.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C461-132E-48FC-8507-D8657D4C37CA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www.ecolinc.vic.edu.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C925-6E40-45CC-8936-8C508F8B6B17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ecolinc_cmyk"/>
          <p:cNvPicPr/>
          <p:nvPr/>
        </p:nvPicPr>
        <p:blipFill>
          <a:blip r:embed="rId1"/>
          <a:stretch/>
        </p:blipFill>
        <p:spPr>
          <a:xfrm>
            <a:off x="0" y="0"/>
            <a:ext cx="3240000" cy="2160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77336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2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AU" sz="5200" spc="-1" strike="noStrike">
                <a:solidFill>
                  <a:srgbClr val="999900"/>
                </a:solidFill>
                <a:latin typeface="Garamond"/>
              </a:rPr>
              <a:t>      </a:t>
            </a:r>
            <a:br>
              <a:rPr sz="5200"/>
            </a:br>
            <a:r>
              <a:rPr b="0" lang="en-AU" sz="5200" spc="-1" strike="noStrike">
                <a:solidFill>
                  <a:srgbClr val="999900"/>
                </a:solidFill>
                <a:latin typeface="Garamond"/>
              </a:rPr>
              <a:t>   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gs - Habitat Surve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99cc00"/>
                </a:solidFill>
                <a:latin typeface="Verdana"/>
              </a:rPr>
              <a:t>www.ecolinc.vic.edu.au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ecolinc_bw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57240" y="2214720"/>
            <a:ext cx="5220000" cy="3479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abitat surve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400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Why conduct a habitat surve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o understand the condition and quality of a waterw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A healthy waterway usually means that the surrounding land or catchment is in good cond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An unhealthy waterway indicates that something is wrong in the catch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99cc00"/>
                </a:solidFill>
                <a:latin typeface="Verdana"/>
              </a:rPr>
              <a:t>www.ecolinc.vic.edu.au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ecolinc_bw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57240" y="2214720"/>
            <a:ext cx="5220000" cy="3479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9900"/>
                </a:solidFill>
                <a:latin typeface="Garamond"/>
              </a:rPr>
              <a:t>Environmental report car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Content Placeholder 3"/>
          <p:cNvSpPr/>
          <p:nvPr/>
        </p:nvSpPr>
        <p:spPr>
          <a:xfrm>
            <a:off x="500040" y="1571760"/>
            <a:ext cx="8215200" cy="51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Decide the format of your environmental re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Bookl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Po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ertific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99cc00"/>
                </a:solidFill>
                <a:latin typeface="Verdana"/>
              </a:rPr>
              <a:t>www.ecolinc.vic.edu.au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9900"/>
                </a:solidFill>
                <a:latin typeface="Garamond"/>
              </a:rPr>
              <a:t>Habitat factor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Picture 2" descr="C:\Documents and Settings\nicole\My Documents\My Pictures\PHOTOS\Local river pics 10APR08 (water sample sites)\Lerderderg River\P4100009 (Large).JPG"/>
          <p:cNvPicPr/>
          <p:nvPr/>
        </p:nvPicPr>
        <p:blipFill>
          <a:blip r:embed="rId1"/>
          <a:stretch/>
        </p:blipFill>
        <p:spPr>
          <a:xfrm>
            <a:off x="1571760" y="1643040"/>
            <a:ext cx="6040440" cy="4530600"/>
          </a:xfrm>
          <a:prstGeom prst="rect">
            <a:avLst/>
          </a:prstGeom>
          <a:ln w="0">
            <a:noFill/>
          </a:ln>
        </p:spPr>
      </p:pic>
      <p:cxnSp>
        <p:nvCxnSpPr>
          <p:cNvPr id="111" name="Straight Arrow Connector 5"/>
          <p:cNvCxnSpPr/>
          <p:nvPr/>
        </p:nvCxnSpPr>
        <p:spPr>
          <a:xfrm flipV="1">
            <a:off x="1214280" y="3142440"/>
            <a:ext cx="858240" cy="786600"/>
          </a:xfrm>
          <a:prstGeom prst="straightConnector1">
            <a:avLst/>
          </a:prstGeom>
          <a:ln w="9360">
            <a:solidFill>
              <a:srgbClr val="99cc00"/>
            </a:solidFill>
            <a:miter/>
            <a:tailEnd len="med" type="arrow" w="med"/>
          </a:ln>
        </p:spPr>
      </p:cxnSp>
      <p:sp>
        <p:nvSpPr>
          <p:cNvPr id="112" name="TextBox 6"/>
          <p:cNvSpPr/>
          <p:nvPr/>
        </p:nvSpPr>
        <p:spPr>
          <a:xfrm>
            <a:off x="214200" y="3286080"/>
            <a:ext cx="142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Bank erosion and stab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7715160" y="2214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In-stream co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214200" y="2214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Verge vege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7715160" y="371484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Bank vege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16" name="Straight Arrow Connector 14"/>
          <p:cNvCxnSpPr>
            <a:stCxn id="115" idx="1"/>
          </p:cNvCxnSpPr>
          <p:nvPr/>
        </p:nvCxnSpPr>
        <p:spPr>
          <a:xfrm flipH="1" flipV="1">
            <a:off x="6000480" y="3999960"/>
            <a:ext cx="1715040" cy="38520"/>
          </a:xfrm>
          <a:prstGeom prst="straightConnector1">
            <a:avLst/>
          </a:prstGeom>
          <a:ln w="9360">
            <a:solidFill>
              <a:srgbClr val="99cc00"/>
            </a:solidFill>
            <a:miter/>
            <a:tailEnd len="med" type="arrow" w="med"/>
          </a:ln>
        </p:spPr>
      </p:cxnSp>
      <p:cxnSp>
        <p:nvCxnSpPr>
          <p:cNvPr id="117" name="Straight Arrow Connector 18"/>
          <p:cNvCxnSpPr>
            <a:stCxn id="113" idx="1"/>
          </p:cNvCxnSpPr>
          <p:nvPr/>
        </p:nvCxnSpPr>
        <p:spPr>
          <a:xfrm flipH="1">
            <a:off x="5857200" y="2538360"/>
            <a:ext cx="1857960" cy="891360"/>
          </a:xfrm>
          <a:prstGeom prst="straightConnector1">
            <a:avLst/>
          </a:prstGeom>
          <a:ln w="9360">
            <a:solidFill>
              <a:srgbClr val="99cc00"/>
            </a:solidFill>
            <a:miter/>
            <a:tailEnd len="med" type="arrow" w="med"/>
          </a:ln>
        </p:spPr>
      </p:cxnSp>
      <p:cxnSp>
        <p:nvCxnSpPr>
          <p:cNvPr id="118" name="Straight Arrow Connector 22"/>
          <p:cNvCxnSpPr/>
          <p:nvPr/>
        </p:nvCxnSpPr>
        <p:spPr>
          <a:xfrm>
            <a:off x="1428840" y="2428560"/>
            <a:ext cx="1715040" cy="214920"/>
          </a:xfrm>
          <a:prstGeom prst="straightConnector1">
            <a:avLst/>
          </a:prstGeom>
          <a:ln w="9360">
            <a:solidFill>
              <a:srgbClr val="99cc00"/>
            </a:solidFill>
            <a:miter/>
            <a:tailEnd len="med" type="arrow" w="med"/>
          </a:ln>
        </p:spPr>
      </p:cxnSp>
      <p:sp>
        <p:nvSpPr>
          <p:cNvPr id="119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99cc00"/>
                </a:solidFill>
                <a:latin typeface="Verdana"/>
              </a:rPr>
              <a:t>www.ecolinc.vic.edu.au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9900"/>
                </a:solidFill>
                <a:latin typeface="Garamond"/>
              </a:rPr>
              <a:t>Habitat factor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99cc00"/>
                </a:solidFill>
                <a:latin typeface="Verdana"/>
              </a:rPr>
              <a:t>www.ecolinc.vic.edu.au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2" descr="C:\Documents and Settings\nicole\My Documents\My Pictures\PHOTOS\werribee river dec 05\PC200045 (Medium).JPG"/>
          <p:cNvPicPr/>
          <p:nvPr/>
        </p:nvPicPr>
        <p:blipFill>
          <a:blip r:embed="rId1"/>
          <a:stretch/>
        </p:blipFill>
        <p:spPr>
          <a:xfrm>
            <a:off x="1571760" y="1500120"/>
            <a:ext cx="6357960" cy="47689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8"/>
          <p:cNvSpPr/>
          <p:nvPr/>
        </p:nvSpPr>
        <p:spPr>
          <a:xfrm>
            <a:off x="357120" y="33577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Riff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8215200" y="307188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Po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5" name="Straight Arrow Connector 18"/>
          <p:cNvCxnSpPr/>
          <p:nvPr/>
        </p:nvCxnSpPr>
        <p:spPr>
          <a:xfrm flipH="1">
            <a:off x="6643080" y="3286080"/>
            <a:ext cx="1572120" cy="248400"/>
          </a:xfrm>
          <a:prstGeom prst="straightConnector1">
            <a:avLst/>
          </a:prstGeom>
          <a:ln w="9360">
            <a:solidFill>
              <a:srgbClr val="99cc00"/>
            </a:solidFill>
            <a:miter/>
            <a:tailEnd len="med" type="arrow" w="med"/>
          </a:ln>
        </p:spPr>
      </p:cxnSp>
      <p:cxnSp>
        <p:nvCxnSpPr>
          <p:cNvPr id="126" name="Straight Arrow Connector 18"/>
          <p:cNvCxnSpPr/>
          <p:nvPr/>
        </p:nvCxnSpPr>
        <p:spPr>
          <a:xfrm>
            <a:off x="1143000" y="3571560"/>
            <a:ext cx="2000880" cy="786600"/>
          </a:xfrm>
          <a:prstGeom prst="straightConnector1">
            <a:avLst/>
          </a:prstGeom>
          <a:ln w="9360">
            <a:solidFill>
              <a:srgbClr val="99c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ecolinc_bw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57240" y="2214720"/>
            <a:ext cx="5220000" cy="3479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324000" y="1714680"/>
            <a:ext cx="882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-stream cover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ish and other aquatic organisms require snags, logs and rocks where they can shelter for predators and the curr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erge vegetation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getation growing on the section of land up to 30 meters from the water’s ed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ank vegetation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rees, shrubs, grasses, ground covers that grow on the ban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428760" y="0"/>
            <a:ext cx="82864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9900"/>
                </a:solidFill>
                <a:latin typeface="Garamond"/>
              </a:rPr>
              <a:t>Habitat factor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99cc00"/>
                </a:solidFill>
                <a:latin typeface="Verdana"/>
              </a:rPr>
              <a:t>www.ecolinc.vic.edu.au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ecolinc_bw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57240" y="2214720"/>
            <a:ext cx="5220000" cy="34797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1727640" y="422100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Verdana"/>
              </a:rPr>
              <a:t>Wetland organis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24000" y="1643040"/>
            <a:ext cx="882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ank erosion and stability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treams naturally erode, usually on bends.  Changes in adjacent land can cause a stream to become unstable, such as run-off from impervious surfaces and stock acces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iffles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hallow area in a stream where water rushes quickl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ol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psteam of a riffle the water is often quiet and may form a poo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28760" y="0"/>
            <a:ext cx="82152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9900"/>
                </a:solidFill>
                <a:latin typeface="Garamond"/>
              </a:rPr>
              <a:t>Habitat factor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0718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99cc00"/>
                </a:solidFill>
                <a:latin typeface="Verdana"/>
              </a:rPr>
              <a:t>www.ecolinc.vic.edu.au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04:40:03Z</dcterms:created>
  <dc:creator>suzanne</dc:creator>
  <dc:description/>
  <dc:language>en-US</dc:language>
  <cp:lastModifiedBy>Suzanne Clark</cp:lastModifiedBy>
  <dcterms:modified xsi:type="dcterms:W3CDTF">2008-06-23T00:17:33Z</dcterms:modified>
  <cp:revision>163</cp:revision>
  <dc:subject/>
  <dc:title>VCE CHEMISTRY</dc:title>
</cp:coreProperties>
</file>